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9E6-C4AD-477C-94C0-05F96801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5B5-7CB3-4902-B2BE-40BC98DF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E86-8429-46A7-8535-CAEEB2FD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C48-08E8-4A23-A976-A08AC830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FEC-6C99-4799-AA2E-D8A7DD35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D77-78F4-4CBB-989C-8F688BA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A09-5335-4A6A-84B4-8968C968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CD4-B6FB-4D1A-BD4B-3EC49B9D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D23-2221-4800-9608-5D600EC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DAB-E126-452F-AFBD-B7C0B24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5DF-6766-4495-AC1E-AF04E4A9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82E-C46B-4817-938A-ED485590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574D-FAA6-4AE3-8207-388F1E370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05320" y="609480"/>
            <a:ext cx="2019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our schoo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657600" y="5334120"/>
            <a:ext cx="205740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y Trist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3"/>
          <a:stretch/>
        </p:blipFill>
        <p:spPr>
          <a:xfrm>
            <a:off x="3276720" y="2154240"/>
            <a:ext cx="27432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Ro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r school is Glenbo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4:15Z</dcterms:created>
  <dc:creator>4glenb2</dc:creator>
  <dc:description/>
  <dc:language>en-US</dc:language>
  <cp:lastModifiedBy>4glenb2</cp:lastModifiedBy>
  <dcterms:modified xsi:type="dcterms:W3CDTF">2009-09-30T09:07:09Z</dcterms:modified>
  <cp:revision>1</cp:revision>
  <dc:subject/>
  <dc:title>PowerPoint Presentation</dc:title>
</cp:coreProperties>
</file>